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3D26-B8AF-4F98-95DD-579047C6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5EF7-9AE6-48E5-B5F4-94EF57AF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C8F-E77C-4463-9CA4-AB245372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5AC6-04EC-4759-8676-602D49094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74DE-D3D5-41AC-94BB-92F34D7B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8E44-3A97-4702-BF9A-93F13DFB3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D043-87CB-497E-92AB-9125FDC68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AB98-8F69-4875-8F05-62B19390F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E0FB-1709-4729-9E02-9F20883DF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DFB-7AF7-41A7-B4F4-3B552A233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FBDE-BA8F-4634-BB3B-C14164E20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CC66-DA4F-4F61-8892-E7929F20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F5C7C-C68C-4461-9CCA-457E887C58D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9028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</a:t>
            </a:r>
            <a:br>
              <a:rPr sz="20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INTRODUCTION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O</a:t>
            </a:r>
            <a:br>
              <a:rPr sz="2000"/>
            </a:b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                    HIST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905040" y="6127920"/>
            <a:ext cx="7412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336600"/>
                </a:solidFill>
                <a:latin typeface="Arial"/>
              </a:rPr>
              <a:t>                                   </a:t>
            </a:r>
            <a:r>
              <a:rPr b="0" lang="en-GB" sz="1000" spc="-1" strike="noStrike">
                <a:solidFill>
                  <a:srgbClr val="336600"/>
                </a:solidFill>
                <a:latin typeface="Arial"/>
              </a:rPr>
              <a:t>ALL CONTENT IS COPYRIGHT </a:t>
            </a:r>
            <a:r>
              <a:rPr b="0" lang="en-US" sz="1000" spc="-1" strike="noStrike">
                <a:solidFill>
                  <a:srgbClr val="336600"/>
                </a:solidFill>
                <a:latin typeface="Arial"/>
                <a:ea typeface="Times New Roman"/>
              </a:rPr>
              <a:t>© OF THE ROYAL VETERINARY COLLEG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6600"/>
                </a:solidFill>
                <a:latin typeface="Arial"/>
                <a:ea typeface="Times New Roman"/>
              </a:rPr>
              <a:t>THIS CONTENT MAY ONLY BE USED FOR EDUCATIONAL PURPOSES BY CURRENT STUDENTS OF THE COLLEG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4" descr="Picture1"/>
          <p:cNvPicPr/>
          <p:nvPr/>
        </p:nvPicPr>
        <p:blipFill>
          <a:blip r:embed="rId1"/>
          <a:stretch/>
        </p:blipFill>
        <p:spPr>
          <a:xfrm>
            <a:off x="179280" y="189000"/>
            <a:ext cx="1752840" cy="93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9" descr="muscle H onlymod"/>
          <p:cNvPicPr/>
          <p:nvPr/>
        </p:nvPicPr>
        <p:blipFill>
          <a:blip r:embed="rId1"/>
          <a:stretch/>
        </p:blipFill>
        <p:spPr>
          <a:xfrm>
            <a:off x="250920" y="2795760"/>
            <a:ext cx="2408040" cy="3657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three micrographs are of striated musc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1 has been stained with haematoxylin on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360720" y="595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1905120" y="657396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1"/>
          <p:cNvSpPr/>
          <p:nvPr/>
        </p:nvSpPr>
        <p:spPr>
          <a:xfrm>
            <a:off x="1895400" y="6497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2"/>
          <p:cNvSpPr/>
          <p:nvPr/>
        </p:nvSpPr>
        <p:spPr>
          <a:xfrm>
            <a:off x="2895480" y="6497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2050920" y="655020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7" descr="muscle H onlymod"/>
          <p:cNvPicPr/>
          <p:nvPr/>
        </p:nvPicPr>
        <p:blipFill>
          <a:blip r:embed="rId1"/>
          <a:stretch/>
        </p:blipFill>
        <p:spPr>
          <a:xfrm>
            <a:off x="250920" y="2795760"/>
            <a:ext cx="2408040" cy="3657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three micrographs are of striated musc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1 has been stained with haematoxylin on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2 has been stained with eosin on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6" descr="STRIATED"/>
          <p:cNvPicPr/>
          <p:nvPr/>
        </p:nvPicPr>
        <p:blipFill>
          <a:blip r:embed="rId2"/>
          <a:stretch/>
        </p:blipFill>
        <p:spPr>
          <a:xfrm>
            <a:off x="2771640" y="2795760"/>
            <a:ext cx="2398680" cy="3657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360720" y="595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2891160" y="595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11"/>
          <p:cNvSpPr/>
          <p:nvPr/>
        </p:nvSpPr>
        <p:spPr>
          <a:xfrm>
            <a:off x="1905120" y="657396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2"/>
          <p:cNvSpPr/>
          <p:nvPr/>
        </p:nvSpPr>
        <p:spPr>
          <a:xfrm>
            <a:off x="1895400" y="6497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3"/>
          <p:cNvSpPr/>
          <p:nvPr/>
        </p:nvSpPr>
        <p:spPr>
          <a:xfrm>
            <a:off x="2895480" y="6497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050920" y="655020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7" descr="muscle H onlymod"/>
          <p:cNvPicPr/>
          <p:nvPr/>
        </p:nvPicPr>
        <p:blipFill>
          <a:blip r:embed="rId1"/>
          <a:stretch/>
        </p:blipFill>
        <p:spPr>
          <a:xfrm>
            <a:off x="250920" y="2795760"/>
            <a:ext cx="2408040" cy="3657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" descr="2"/>
          <p:cNvPicPr/>
          <p:nvPr/>
        </p:nvPicPr>
        <p:blipFill>
          <a:blip r:embed="rId2"/>
          <a:stretch/>
        </p:blipFill>
        <p:spPr>
          <a:xfrm>
            <a:off x="5259240" y="2795760"/>
            <a:ext cx="2387880" cy="3657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Picture60m"/>
          <p:cNvPicPr/>
          <p:nvPr/>
        </p:nvPicPr>
        <p:blipFill>
          <a:blip r:embed="rId3"/>
          <a:stretch/>
        </p:blipFill>
        <p:spPr>
          <a:xfrm>
            <a:off x="7461360" y="189000"/>
            <a:ext cx="1474560" cy="431964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three micrographs are of striated musc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1 has been stained with haematoxylin on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2 has been stained with eosin on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o 3 has been stained with both haematoxylin and eos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6" descr="STRIATED"/>
          <p:cNvPicPr/>
          <p:nvPr/>
        </p:nvPicPr>
        <p:blipFill>
          <a:blip r:embed="rId4"/>
          <a:stretch/>
        </p:blipFill>
        <p:spPr>
          <a:xfrm>
            <a:off x="2771640" y="2795760"/>
            <a:ext cx="2398680" cy="3657600"/>
          </a:xfrm>
          <a:prstGeom prst="rect">
            <a:avLst/>
          </a:prstGeom>
          <a:ln w="0">
            <a:noFill/>
          </a:ln>
        </p:spPr>
      </p:pic>
      <p:sp>
        <p:nvSpPr>
          <p:cNvPr id="83" name="Text Box 8"/>
          <p:cNvSpPr/>
          <p:nvPr/>
        </p:nvSpPr>
        <p:spPr>
          <a:xfrm>
            <a:off x="360720" y="5959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891160" y="595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5375520" y="5956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1"/>
          <p:cNvSpPr/>
          <p:nvPr/>
        </p:nvSpPr>
        <p:spPr>
          <a:xfrm>
            <a:off x="1905120" y="657396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2"/>
          <p:cNvSpPr/>
          <p:nvPr/>
        </p:nvSpPr>
        <p:spPr>
          <a:xfrm>
            <a:off x="1895400" y="6497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3"/>
          <p:cNvSpPr/>
          <p:nvPr/>
        </p:nvSpPr>
        <p:spPr>
          <a:xfrm>
            <a:off x="2895480" y="64976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2050920" y="6550200"/>
            <a:ext cx="7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0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8136000" y="1052640"/>
            <a:ext cx="539640" cy="792000"/>
          </a:xfrm>
          <a:prstGeom prst="rect">
            <a:avLst/>
          </a:prstGeom>
          <a:noFill/>
          <a:ln w="3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7459920" y="4397400"/>
            <a:ext cx="15476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orse Hind lim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ateral 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06632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ining of white blood cells (leucocytes) is an example of H&amp;E staining to differentiate between cell ty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re are three types of white blood cel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ymphoc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noc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olymorphonuclear leucocytes (granulocy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granulocytes can be distinguished by their cytoplasmic granu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stained with H&amp;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utrophils: granules faintly stained or uns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osinophils: granules bind with eosin and are stained r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ophils: granules bind with haematoxylin and are stained blue/purple.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nulocy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utrophil ..  granules lightly s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4" descr="BLOOD04_17_06"/>
          <p:cNvPicPr/>
          <p:nvPr/>
        </p:nvPicPr>
        <p:blipFill>
          <a:blip r:embed="rId1"/>
          <a:stretch/>
        </p:blipFill>
        <p:spPr>
          <a:xfrm>
            <a:off x="457200" y="2752560"/>
            <a:ext cx="2790720" cy="38005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466920" y="27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6"/>
          <p:cNvSpPr/>
          <p:nvPr/>
        </p:nvSpPr>
        <p:spPr>
          <a:xfrm>
            <a:off x="533520" y="258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3"/>
          <p:cNvSpPr/>
          <p:nvPr/>
        </p:nvSpPr>
        <p:spPr>
          <a:xfrm>
            <a:off x="539640" y="26589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1162080" y="258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5"/>
          <p:cNvSpPr/>
          <p:nvPr/>
        </p:nvSpPr>
        <p:spPr>
          <a:xfrm>
            <a:off x="542880" y="239544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nulocy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utrophil ..  granules lightly s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osinophil ..  granules stained red/pi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4" descr="BLOOD04_17_06"/>
          <p:cNvPicPr/>
          <p:nvPr/>
        </p:nvPicPr>
        <p:blipFill>
          <a:blip r:embed="rId1"/>
          <a:stretch/>
        </p:blipFill>
        <p:spPr>
          <a:xfrm>
            <a:off x="457200" y="2752560"/>
            <a:ext cx="2790720" cy="380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BLOOD02_17_06"/>
          <p:cNvPicPr/>
          <p:nvPr/>
        </p:nvPicPr>
        <p:blipFill>
          <a:blip r:embed="rId2"/>
          <a:stretch/>
        </p:blipFill>
        <p:spPr>
          <a:xfrm>
            <a:off x="3352680" y="2773440"/>
            <a:ext cx="2702160" cy="37306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466920" y="27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3362400" y="27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0"/>
          <p:cNvSpPr/>
          <p:nvPr/>
        </p:nvSpPr>
        <p:spPr>
          <a:xfrm>
            <a:off x="533520" y="258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11"/>
          <p:cNvSpPr/>
          <p:nvPr/>
        </p:nvSpPr>
        <p:spPr>
          <a:xfrm>
            <a:off x="539640" y="26589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1162080" y="258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542880" y="239544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3059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ranulocy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eutrophil ..  granules lightly s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osinophil ..  granules stained red/pi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sophil    ..  granules stained blue/purpl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4" descr="BLOOD04_17_06"/>
          <p:cNvPicPr/>
          <p:nvPr/>
        </p:nvPicPr>
        <p:blipFill>
          <a:blip r:embed="rId1"/>
          <a:stretch/>
        </p:blipFill>
        <p:spPr>
          <a:xfrm>
            <a:off x="457200" y="2752560"/>
            <a:ext cx="2790720" cy="380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BLOOD03_17_06"/>
          <p:cNvPicPr/>
          <p:nvPr/>
        </p:nvPicPr>
        <p:blipFill>
          <a:blip r:embed="rId2"/>
          <a:stretch/>
        </p:blipFill>
        <p:spPr>
          <a:xfrm>
            <a:off x="6159600" y="2773440"/>
            <a:ext cx="2633400" cy="3730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BLOOD02_17_06"/>
          <p:cNvPicPr/>
          <p:nvPr/>
        </p:nvPicPr>
        <p:blipFill>
          <a:blip r:embed="rId3"/>
          <a:stretch/>
        </p:blipFill>
        <p:spPr>
          <a:xfrm>
            <a:off x="3352680" y="2773440"/>
            <a:ext cx="2702160" cy="373068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7"/>
          <p:cNvSpPr/>
          <p:nvPr/>
        </p:nvSpPr>
        <p:spPr>
          <a:xfrm>
            <a:off x="466920" y="27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3362400" y="27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6181920" y="27432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0"/>
          <p:cNvSpPr/>
          <p:nvPr/>
        </p:nvSpPr>
        <p:spPr>
          <a:xfrm>
            <a:off x="533520" y="258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539640" y="2658960"/>
            <a:ext cx="60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1162080" y="258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542880" y="239544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ost obvious feature of cells when viewed under the light microscope is the nucleus that stains purple /blue with H&amp;E st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DNA acidophilic or basophilic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most obvious feature of cells when viewed under the light microscope is the nucleus that stains purple /blue with H&amp;E sta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DNA acidophilic or basophilic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nswer:  basophili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0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6560" y="990360"/>
            <a:ext cx="8915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oli can be seen in the nuclei of some cells as a darkly staining round d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lls manufacturing proteins eg enzymes contain purple/blue stained materi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llustrated is Slide 24 , showing the active exocrine cells of the panc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4" descr="S24X60m030703"/>
          <p:cNvPicPr/>
          <p:nvPr/>
        </p:nvPicPr>
        <p:blipFill>
          <a:blip r:embed="rId1"/>
          <a:stretch/>
        </p:blipFill>
        <p:spPr>
          <a:xfrm>
            <a:off x="441360" y="2819520"/>
            <a:ext cx="4638600" cy="3449520"/>
          </a:xfrm>
          <a:prstGeom prst="rect">
            <a:avLst/>
          </a:prstGeom>
          <a:ln w="0">
            <a:noFill/>
          </a:ln>
        </p:spPr>
      </p:pic>
      <p:sp>
        <p:nvSpPr>
          <p:cNvPr id="131" name="Line 5"/>
          <p:cNvSpPr/>
          <p:nvPr/>
        </p:nvSpPr>
        <p:spPr>
          <a:xfrm>
            <a:off x="3828960" y="64594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6"/>
          <p:cNvSpPr/>
          <p:nvPr/>
        </p:nvSpPr>
        <p:spPr>
          <a:xfrm>
            <a:off x="3819600" y="63831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7"/>
          <p:cNvSpPr/>
          <p:nvPr/>
        </p:nvSpPr>
        <p:spPr>
          <a:xfrm>
            <a:off x="5057640" y="63831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092480" y="647388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5219280" y="5646600"/>
            <a:ext cx="3469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nine Abdo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Pancreas (p) located between duodenum descendens (dd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amp; duodenum ascendens (da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16" descr="Picture61m"/>
          <p:cNvPicPr/>
          <p:nvPr/>
        </p:nvPicPr>
        <p:blipFill>
          <a:blip r:embed="rId2"/>
          <a:stretch/>
        </p:blipFill>
        <p:spPr>
          <a:xfrm>
            <a:off x="5148360" y="2820960"/>
            <a:ext cx="37447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vidual cells are grouped into tissues and each tissue type is highly specialised to perform specific functions.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knowledge of the functional organisation of tissues helps in the understanding of how individual cells are organised to form tissues, organs, organ systems and the complete organism.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stology is the study of the microscopic structure of tissues and organs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e: microscopic anatom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39621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difference between 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YTOLO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HISTOLOG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03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99800" y="990360"/>
            <a:ext cx="8762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oli can be seen in the nuclei of some cells as a darkly staining round do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lls manufacturing proteins eg enzymes contain purple/blue stained material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llustrated is Slide 24 , showing the active exocrine cells of the pancre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4" descr="S24X60m030703"/>
          <p:cNvPicPr/>
          <p:nvPr/>
        </p:nvPicPr>
        <p:blipFill>
          <a:blip r:embed="rId1"/>
          <a:stretch/>
        </p:blipFill>
        <p:spPr>
          <a:xfrm>
            <a:off x="441360" y="2819520"/>
            <a:ext cx="4638600" cy="344952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9"/>
          <p:cNvSpPr/>
          <p:nvPr/>
        </p:nvSpPr>
        <p:spPr>
          <a:xfrm>
            <a:off x="5321520" y="3200400"/>
            <a:ext cx="9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uclei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5325480" y="4356000"/>
            <a:ext cx="3500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asal area of cells rich in enzy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ducing RER stains purple/b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1"/>
          <p:cNvSpPr/>
          <p:nvPr/>
        </p:nvSpPr>
        <p:spPr>
          <a:xfrm flipH="1" flipV="1">
            <a:off x="3946680" y="4343040"/>
            <a:ext cx="1371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12"/>
          <p:cNvSpPr/>
          <p:nvPr/>
        </p:nvSpPr>
        <p:spPr>
          <a:xfrm flipH="1">
            <a:off x="3870360" y="4648320"/>
            <a:ext cx="14479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 flipH="1">
            <a:off x="3717720" y="3352680"/>
            <a:ext cx="152388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 flipH="1">
            <a:off x="3946680" y="3798720"/>
            <a:ext cx="30456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3828960" y="6459480"/>
            <a:ext cx="1219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3819600" y="63831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5057640" y="638316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4092480" y="647388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30592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you continue to look at cells and tissues always take notice of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nuclear shap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fferent types of cells have distinctive nucle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picture below shows part of a villus in the small intestine.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4" descr="S45X40mod"/>
          <p:cNvPicPr/>
          <p:nvPr/>
        </p:nvPicPr>
        <p:blipFill>
          <a:blip r:embed="rId1"/>
          <a:stretch/>
        </p:blipFill>
        <p:spPr>
          <a:xfrm>
            <a:off x="533520" y="2743200"/>
            <a:ext cx="4876560" cy="3619440"/>
          </a:xfrm>
          <a:prstGeom prst="rect">
            <a:avLst/>
          </a:prstGeom>
          <a:ln w="0">
            <a:noFill/>
          </a:ln>
        </p:spPr>
      </p:pic>
      <p:sp>
        <p:nvSpPr>
          <p:cNvPr id="153" name="Line 5"/>
          <p:cNvSpPr/>
          <p:nvPr/>
        </p:nvSpPr>
        <p:spPr>
          <a:xfrm>
            <a:off x="5594400" y="6172200"/>
            <a:ext cx="74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6"/>
          <p:cNvSpPr/>
          <p:nvPr/>
        </p:nvSpPr>
        <p:spPr>
          <a:xfrm>
            <a:off x="5578560" y="6095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7"/>
          <p:cNvSpPr/>
          <p:nvPr/>
        </p:nvSpPr>
        <p:spPr>
          <a:xfrm>
            <a:off x="6356520" y="6095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5638680" y="617364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914080" y="5238720"/>
            <a:ext cx="26830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nine Abdom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all intestine; jejunum (j) loops suspended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 mesojejunum (mj)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6" descr="Picture62m"/>
          <p:cNvPicPr/>
          <p:nvPr/>
        </p:nvPicPr>
        <p:blipFill>
          <a:blip r:embed="rId2"/>
          <a:stretch/>
        </p:blipFill>
        <p:spPr>
          <a:xfrm>
            <a:off x="5499000" y="2752560"/>
            <a:ext cx="3394080" cy="24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9144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lining epithelium has largish, relatively pale staining ,elongated nucle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wandering lymphocytes (white blood cells that are the first line of defence) are scattered throughout the tissue, have a round dark nucle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derlying connective tissue cells contains typical fibroblasts with narrow nucle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4" descr="S45X40mod"/>
          <p:cNvPicPr/>
          <p:nvPr/>
        </p:nvPicPr>
        <p:blipFill>
          <a:blip r:embed="rId1"/>
          <a:stretch/>
        </p:blipFill>
        <p:spPr>
          <a:xfrm>
            <a:off x="533520" y="2743200"/>
            <a:ext cx="4876560" cy="3619440"/>
          </a:xfrm>
          <a:prstGeom prst="rect">
            <a:avLst/>
          </a:prstGeom>
          <a:ln w="0">
            <a:noFill/>
          </a:ln>
        </p:spPr>
      </p:pic>
      <p:sp>
        <p:nvSpPr>
          <p:cNvPr id="162" name="Line 16"/>
          <p:cNvSpPr/>
          <p:nvPr/>
        </p:nvSpPr>
        <p:spPr>
          <a:xfrm>
            <a:off x="5583240" y="61722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Line 18"/>
          <p:cNvSpPr/>
          <p:nvPr/>
        </p:nvSpPr>
        <p:spPr>
          <a:xfrm>
            <a:off x="5583240" y="6095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20"/>
          <p:cNvSpPr/>
          <p:nvPr/>
        </p:nvSpPr>
        <p:spPr>
          <a:xfrm>
            <a:off x="5638680" y="617364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21"/>
          <p:cNvSpPr/>
          <p:nvPr/>
        </p:nvSpPr>
        <p:spPr>
          <a:xfrm>
            <a:off x="6356520" y="6105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6840" y="914400"/>
            <a:ext cx="84582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lining epithelium has largish, relatively pale staining ,elongated nucle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wandering lymphocytes (white blood cells that are the first line of defence) are scattered throughout the tissue, have a round dark nucleu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derlying connective tissue cells contains typical fibroblasts with narrow nuclei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4" descr="S45X40mod"/>
          <p:cNvPicPr/>
          <p:nvPr/>
        </p:nvPicPr>
        <p:blipFill>
          <a:blip r:embed="rId1"/>
          <a:stretch/>
        </p:blipFill>
        <p:spPr>
          <a:xfrm>
            <a:off x="533520" y="2743200"/>
            <a:ext cx="4876560" cy="36194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5925600" y="2933640"/>
            <a:ext cx="29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ound nuclei of lymphoc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925960" y="4457880"/>
            <a:ext cx="25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val nuclei of epithel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5926680" y="5416560"/>
            <a:ext cx="283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arrow nuclei of fibrobla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Line 8"/>
          <p:cNvSpPr/>
          <p:nvPr/>
        </p:nvSpPr>
        <p:spPr>
          <a:xfrm flipH="1">
            <a:off x="3200040" y="3086280"/>
            <a:ext cx="259092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9"/>
          <p:cNvSpPr/>
          <p:nvPr/>
        </p:nvSpPr>
        <p:spPr>
          <a:xfrm flipH="1">
            <a:off x="5105160" y="3238560"/>
            <a:ext cx="1522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10"/>
          <p:cNvSpPr/>
          <p:nvPr/>
        </p:nvSpPr>
        <p:spPr>
          <a:xfrm flipH="1">
            <a:off x="4723920" y="461016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Line 11"/>
          <p:cNvSpPr/>
          <p:nvPr/>
        </p:nvSpPr>
        <p:spPr>
          <a:xfrm flipH="1">
            <a:off x="4876560" y="4610160"/>
            <a:ext cx="99036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2"/>
          <p:cNvSpPr/>
          <p:nvPr/>
        </p:nvSpPr>
        <p:spPr>
          <a:xfrm flipH="1" flipV="1">
            <a:off x="4876560" y="5295600"/>
            <a:ext cx="99036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13"/>
          <p:cNvSpPr/>
          <p:nvPr/>
        </p:nvSpPr>
        <p:spPr>
          <a:xfrm flipH="1">
            <a:off x="3657600" y="5600880"/>
            <a:ext cx="220968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5583240" y="6172200"/>
            <a:ext cx="762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5"/>
          <p:cNvSpPr/>
          <p:nvPr/>
        </p:nvSpPr>
        <p:spPr>
          <a:xfrm>
            <a:off x="5583240" y="6095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16"/>
          <p:cNvSpPr/>
          <p:nvPr/>
        </p:nvSpPr>
        <p:spPr>
          <a:xfrm>
            <a:off x="5638680" y="617364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25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Line 17"/>
          <p:cNvSpPr/>
          <p:nvPr/>
        </p:nvSpPr>
        <p:spPr>
          <a:xfrm>
            <a:off x="6356520" y="6105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&amp;E staining provides some structural detail but does not always reveal certain structural componen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g. Elastic fibres, reticular fibres, lipids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ther selective staining procedures are used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lide 21    Reticular fibres stained in section of liver. (silver stai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4" descr="SLIDE"/>
          <p:cNvPicPr/>
          <p:nvPr/>
        </p:nvPicPr>
        <p:blipFill>
          <a:blip r:embed="rId1"/>
          <a:stretch/>
        </p:blipFill>
        <p:spPr>
          <a:xfrm>
            <a:off x="457200" y="2055960"/>
            <a:ext cx="6629400" cy="4365360"/>
          </a:xfrm>
          <a:prstGeom prst="rect">
            <a:avLst/>
          </a:prstGeom>
          <a:ln w="0">
            <a:noFill/>
          </a:ln>
        </p:spPr>
      </p:pic>
      <p:sp>
        <p:nvSpPr>
          <p:cNvPr id="187" name="Line 5"/>
          <p:cNvSpPr/>
          <p:nvPr/>
        </p:nvSpPr>
        <p:spPr>
          <a:xfrm>
            <a:off x="7238880" y="6172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6"/>
          <p:cNvSpPr/>
          <p:nvPr/>
        </p:nvSpPr>
        <p:spPr>
          <a:xfrm>
            <a:off x="7248600" y="6095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7"/>
          <p:cNvSpPr/>
          <p:nvPr/>
        </p:nvSpPr>
        <p:spPr>
          <a:xfrm>
            <a:off x="8143920" y="6095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7383240" y="617220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9" descr=""/>
          <p:cNvPicPr/>
          <p:nvPr/>
        </p:nvPicPr>
        <p:blipFill>
          <a:blip r:embed="rId2"/>
          <a:stretch/>
        </p:blipFill>
        <p:spPr>
          <a:xfrm>
            <a:off x="5257800" y="1558800"/>
            <a:ext cx="3657600" cy="24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2" name="Text Box 10"/>
          <p:cNvSpPr/>
          <p:nvPr/>
        </p:nvSpPr>
        <p:spPr>
          <a:xfrm>
            <a:off x="7301880" y="4325760"/>
            <a:ext cx="12232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nine Abdom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  Diaphrag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    L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   Stom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 Sple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6326280" y="2209680"/>
            <a:ext cx="263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2"/>
          <p:cNvSpPr/>
          <p:nvPr/>
        </p:nvSpPr>
        <p:spPr>
          <a:xfrm>
            <a:off x="6402240" y="2895480"/>
            <a:ext cx="25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3"/>
          <p:cNvSpPr/>
          <p:nvPr/>
        </p:nvSpPr>
        <p:spPr>
          <a:xfrm>
            <a:off x="6691320" y="2357280"/>
            <a:ext cx="2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4"/>
          <p:cNvSpPr/>
          <p:nvPr/>
        </p:nvSpPr>
        <p:spPr>
          <a:xfrm>
            <a:off x="7850160" y="2895480"/>
            <a:ext cx="32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S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lide 21    Reticular fibres stained in section of liver. (silver stain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" descr="SLIDE"/>
          <p:cNvPicPr/>
          <p:nvPr/>
        </p:nvPicPr>
        <p:blipFill>
          <a:blip r:embed="rId1"/>
          <a:stretch/>
        </p:blipFill>
        <p:spPr>
          <a:xfrm>
            <a:off x="457200" y="2055960"/>
            <a:ext cx="6629400" cy="4365360"/>
          </a:xfrm>
          <a:prstGeom prst="rect">
            <a:avLst/>
          </a:prstGeom>
          <a:ln w="0">
            <a:noFill/>
          </a:ln>
        </p:spPr>
      </p:pic>
      <p:sp>
        <p:nvSpPr>
          <p:cNvPr id="200" name="Line 5"/>
          <p:cNvSpPr/>
          <p:nvPr/>
        </p:nvSpPr>
        <p:spPr>
          <a:xfrm>
            <a:off x="7238880" y="6172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6"/>
          <p:cNvSpPr/>
          <p:nvPr/>
        </p:nvSpPr>
        <p:spPr>
          <a:xfrm>
            <a:off x="7248600" y="6095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7"/>
          <p:cNvSpPr/>
          <p:nvPr/>
        </p:nvSpPr>
        <p:spPr>
          <a:xfrm>
            <a:off x="8143920" y="60958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7383240" y="617220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9"/>
          <p:cNvSpPr/>
          <p:nvPr/>
        </p:nvSpPr>
        <p:spPr>
          <a:xfrm flipH="1">
            <a:off x="4648320" y="5638680"/>
            <a:ext cx="2666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"/>
          <p:cNvSpPr/>
          <p:nvPr/>
        </p:nvSpPr>
        <p:spPr>
          <a:xfrm flipH="1">
            <a:off x="5333760" y="3962520"/>
            <a:ext cx="1981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 flipH="1">
            <a:off x="4876920" y="3962520"/>
            <a:ext cx="121896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2"/>
          <p:cNvSpPr/>
          <p:nvPr/>
        </p:nvSpPr>
        <p:spPr>
          <a:xfrm flipH="1">
            <a:off x="4191120" y="2590920"/>
            <a:ext cx="312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 flipH="1">
            <a:off x="5013360" y="3200400"/>
            <a:ext cx="2286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 flipV="1">
            <a:off x="5790960" y="2895120"/>
            <a:ext cx="6094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7272000" y="242244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ver sinusoi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6"/>
          <p:cNvSpPr/>
          <p:nvPr/>
        </p:nvSpPr>
        <p:spPr>
          <a:xfrm>
            <a:off x="7275960" y="3033720"/>
            <a:ext cx="1643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ticular fi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ining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7"/>
          <p:cNvSpPr/>
          <p:nvPr/>
        </p:nvSpPr>
        <p:spPr>
          <a:xfrm>
            <a:off x="7276320" y="3795840"/>
            <a:ext cx="170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rds of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epatoc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8"/>
          <p:cNvSpPr/>
          <p:nvPr/>
        </p:nvSpPr>
        <p:spPr>
          <a:xfrm>
            <a:off x="7274520" y="547056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entral ve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lide 58    Elastic fibres stained in spread of connective tissu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4" descr="SLIDE"/>
          <p:cNvPicPr/>
          <p:nvPr/>
        </p:nvPicPr>
        <p:blipFill>
          <a:blip r:embed="rId1"/>
          <a:stretch/>
        </p:blipFill>
        <p:spPr>
          <a:xfrm>
            <a:off x="457200" y="2100240"/>
            <a:ext cx="6781680" cy="4309920"/>
          </a:xfrm>
          <a:prstGeom prst="rect">
            <a:avLst/>
          </a:prstGeom>
          <a:ln w="0">
            <a:noFill/>
          </a:ln>
        </p:spPr>
      </p:pic>
      <p:sp>
        <p:nvSpPr>
          <p:cNvPr id="217" name="Line 6"/>
          <p:cNvSpPr/>
          <p:nvPr/>
        </p:nvSpPr>
        <p:spPr>
          <a:xfrm>
            <a:off x="7391520" y="6172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7391520" y="609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>
            <a:off x="8296200" y="609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7522920" y="616752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80880" y="10666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lide 58    Elastic fibres stained in spread of connective tissu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SLIDE"/>
          <p:cNvPicPr/>
          <p:nvPr/>
        </p:nvPicPr>
        <p:blipFill>
          <a:blip r:embed="rId1"/>
          <a:stretch/>
        </p:blipFill>
        <p:spPr>
          <a:xfrm>
            <a:off x="457200" y="2100240"/>
            <a:ext cx="6781680" cy="4309920"/>
          </a:xfrm>
          <a:prstGeom prst="rect">
            <a:avLst/>
          </a:prstGeom>
          <a:ln w="0">
            <a:noFill/>
          </a:ln>
        </p:spPr>
      </p:pic>
      <p:sp>
        <p:nvSpPr>
          <p:cNvPr id="224" name="Line 5"/>
          <p:cNvSpPr/>
          <p:nvPr/>
        </p:nvSpPr>
        <p:spPr>
          <a:xfrm>
            <a:off x="7391520" y="617220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7391520" y="609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8296200" y="609444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8"/>
          <p:cNvSpPr/>
          <p:nvPr/>
        </p:nvSpPr>
        <p:spPr>
          <a:xfrm>
            <a:off x="7522920" y="6167520"/>
            <a:ext cx="61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50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µ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9"/>
          <p:cNvSpPr/>
          <p:nvPr/>
        </p:nvSpPr>
        <p:spPr>
          <a:xfrm>
            <a:off x="7308360" y="3286080"/>
            <a:ext cx="141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lastic fib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"/>
          <p:cNvSpPr/>
          <p:nvPr/>
        </p:nvSpPr>
        <p:spPr>
          <a:xfrm flipH="1">
            <a:off x="5290920" y="3457440"/>
            <a:ext cx="20574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1"/>
          <p:cNvSpPr/>
          <p:nvPr/>
        </p:nvSpPr>
        <p:spPr>
          <a:xfrm flipH="1">
            <a:off x="4114440" y="3657600"/>
            <a:ext cx="2133720" cy="1600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lide 108    Lipid content of unilocular  adipocytes in nerve sheat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osmium treated staining lipid brown/black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1-21"/>
          <p:cNvPicPr/>
          <p:nvPr/>
        </p:nvPicPr>
        <p:blipFill>
          <a:blip r:embed="rId1"/>
          <a:stretch/>
        </p:blipFill>
        <p:spPr>
          <a:xfrm>
            <a:off x="380880" y="2057400"/>
            <a:ext cx="6934320" cy="3844800"/>
          </a:xfrm>
          <a:prstGeom prst="rect">
            <a:avLst/>
          </a:prstGeom>
          <a:ln w="0">
            <a:noFill/>
          </a:ln>
        </p:spPr>
      </p:pic>
      <p:sp>
        <p:nvSpPr>
          <p:cNvPr id="234" name="Line 14"/>
          <p:cNvSpPr/>
          <p:nvPr/>
        </p:nvSpPr>
        <p:spPr>
          <a:xfrm>
            <a:off x="8439120" y="54957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15"/>
          <p:cNvSpPr/>
          <p:nvPr/>
        </p:nvSpPr>
        <p:spPr>
          <a:xfrm>
            <a:off x="7381800" y="54957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16"/>
          <p:cNvSpPr/>
          <p:nvPr/>
        </p:nvSpPr>
        <p:spPr>
          <a:xfrm>
            <a:off x="7385040" y="561024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7"/>
          <p:cNvSpPr/>
          <p:nvPr/>
        </p:nvSpPr>
        <p:spPr>
          <a:xfrm>
            <a:off x="7559640" y="562464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.5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-152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dividual cells are grouped into tissues and each tissue type is highly specialised to perform specific functions.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 knowledge of the functional organisation of tissues helps in the understanding of how individual cells are organised to form tissues, organs, organ systems and the complete organism.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stology is the study of the microscopic structure of tissues and organs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e: microscopic anatom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3962160"/>
            <a:ext cx="83059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difference between 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YTOLOGY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HISTOLOG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CYTOLOGY  :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he study of cell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Arial"/>
              </a:rPr>
              <a:t>HISTOLOGY :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he study of the microscopic structure of tissu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nd org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380880" y="1066320"/>
            <a:ext cx="8305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lide 108    Lipid content of unilocular  adipocytes in nerve sheat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osmium treated staining lipid brown/black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4" descr="1-21"/>
          <p:cNvPicPr/>
          <p:nvPr/>
        </p:nvPicPr>
        <p:blipFill>
          <a:blip r:embed="rId1"/>
          <a:stretch/>
        </p:blipFill>
        <p:spPr>
          <a:xfrm>
            <a:off x="380880" y="2057400"/>
            <a:ext cx="6934320" cy="38448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3708000" y="6140520"/>
            <a:ext cx="354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pid staining black in nerve she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7648920" y="3057480"/>
            <a:ext cx="72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r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Line 7"/>
          <p:cNvSpPr/>
          <p:nvPr/>
        </p:nvSpPr>
        <p:spPr>
          <a:xfrm flipH="1">
            <a:off x="7391160" y="24382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8"/>
          <p:cNvSpPr/>
          <p:nvPr/>
        </p:nvSpPr>
        <p:spPr>
          <a:xfrm flipH="1">
            <a:off x="7391160" y="41148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Line 9"/>
          <p:cNvSpPr/>
          <p:nvPr/>
        </p:nvSpPr>
        <p:spPr>
          <a:xfrm>
            <a:off x="7543800" y="2438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0"/>
          <p:cNvSpPr/>
          <p:nvPr/>
        </p:nvSpPr>
        <p:spPr>
          <a:xfrm flipV="1">
            <a:off x="4724280" y="5638680"/>
            <a:ext cx="83844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1"/>
          <p:cNvSpPr/>
          <p:nvPr/>
        </p:nvSpPr>
        <p:spPr>
          <a:xfrm flipH="1" flipV="1">
            <a:off x="3733560" y="5638680"/>
            <a:ext cx="990360" cy="533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2"/>
          <p:cNvSpPr/>
          <p:nvPr/>
        </p:nvSpPr>
        <p:spPr>
          <a:xfrm>
            <a:off x="8439120" y="54957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3"/>
          <p:cNvSpPr/>
          <p:nvPr/>
        </p:nvSpPr>
        <p:spPr>
          <a:xfrm>
            <a:off x="7381800" y="54957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Line 14"/>
          <p:cNvSpPr/>
          <p:nvPr/>
        </p:nvSpPr>
        <p:spPr>
          <a:xfrm>
            <a:off x="7385040" y="561024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7559640" y="5624640"/>
            <a:ext cx="70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0.5 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ow to look at se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ngs that we see and feel are relatively easy to comprehen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 we try to look at smaller and smaller structures we have to make ‘an imaginative leap’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Always start with naked eye observ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gress to the lowest magnification on the microscope and only use the higher magnifications if necessar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- if you put the section under the x40 objective you make it very difficul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determine the type of tissue and the organisation of the whole orga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iewing with the naked ey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is surprising how much information you can get just by looking at the slid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sk yourself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. Is the specimen a section of solid tissu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. What shape is the secti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3. Is it small or large, uniform in structure or does it vary from one par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 anoth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4. Are some edges straight, suggesting that the tissue has been cu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rom a larger specime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. Is it a hollow tu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279360" y="13716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roughout the course you will be observing tissues and learning to recogni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Only when you know what the normal is like can you spot the abnorm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(i.e. pathological changes brought about by disease or inju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ine histology.                                                                                 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is a thinly sectioned piece of tissue?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haematoxylin an acidic or basic dye?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are cytoplasmic components of cells after staining with eosin?                                                        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colour of the granules found in basophils?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ine histology.                                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he study of the microscopic structure of tissues and org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is a thinly sectioned piece of tissue?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haematoxylin an acidic or basic dye?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are cytoplasmic components of cells after staining with eosin?                                                        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colour of the granules found in basophils?                                                                                                                   -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ine histology.                                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he study of the microscopic structure of tissues and org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is a thinly sectioned piece of tissue?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olourless and transpar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haematoxylin an acidic or basic dye?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are cytoplasmic components of cells after staining with eosin?                                                        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colour of the granules found in basophils?                                                                                                                   -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ine histology.                                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he study of the microscopic structure of tissues and org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is a thinly sectioned piece of tissue?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olourless and transpar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haematoxylin an acidic or basic dye?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 basic dy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are cytoplasmic components of cells after staining with eosin?                                                        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colour of the granules found in basophils?                                                                                                                   -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ine histology.                                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he study of the microscopic structure of tissues and org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is a thinly sectioned piece of tissue?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olourless and transpar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haematoxylin an acidic or basic dye?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 basic dy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are cytoplasmic components of cells after staining with eosin?       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ed/pi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colour of the granules found in basophils?                                                                                                                   -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763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fine histology.                                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The study of the microscopic structure of tissues and orga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is a thinly sectioned piece of tissue?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Colourless and transpar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s haematoxylin an acidic or basic dye?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 basic dy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colour are cytoplasmic components of cells after staining with eosin?       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ed/pin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is the colour of the granules found in basophils?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Purple/b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istology forms an essential basis for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-          understanding how cells and organs function,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once the structure is known the function can be derived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and vice versa.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-          the study of pathology; which is the study of abnormal  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     structure and function.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ight microscopy is used on regular basis to examine cells and tissues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ncreatic cells produce large amounts of enzymes, what do such cells   look like after H&amp;E staining?                                                                                   -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me  types of fibres found within tissues that can be demonstrated by a special staining procedure?                                                                                 -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are the characteristics of lymphocyte nuclei?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given a slide to examine would you use a high or low  magnification initially?                                                          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ncreatic cells produce large amounts of enzymes, what do such cells   look like after H&amp;E staining?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tes of enzyme synthesis extremely basophilic.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me  types of fibres found within tissues that can be demonstrated by a special staining procedure?                                                                                 -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are the characteristics of lymphocyte nuclei?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given a slide to examine would you use a high or low  magnification initially?                                                                                                                   -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ncreatic cells produce large amounts of enzymes, what do such cells   look like after H&amp;E staining?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tes of enzyme synthesis extremely basophilic.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me  types of fibres found within tissues that can be demonstrated by a special staining procedure?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lastic fibres, reticular fibres.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are the characteristics of lymphocyte nuclei?                                                         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given a slide to examine would you use a high or low  magnification initially?                                                                                                                   -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ncreatic cells produce large amounts of enzymes, what do such cells   look like after H&amp;E staining?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tes of enzyme synthesis extremely basophilic.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me  types of fibres found within tissues that can be demonstrated by a special staining procedure?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lastic fibres, reticular fibres.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are the characteristics of lymphocyte nuclei?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ound and darkly st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given a slide to examine would you use a high or low  magnification initially?                                                                                                                   -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28240" y="759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EST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228240" y="15238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ncreatic cells produce large amounts of enzymes, what do such cells   look like after H&amp;E staining?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ites of enzyme synthesis extremely basophilic.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ame  types of fibres found within tissues that can be demonstrated by a special staining procedure?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Elastic fibres, reticular fibres.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at are the characteristics of lymphocyte nuclei?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Round and darkly stai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When given a slide to examine would you use a high or low  magnification initially?                                                                                                                  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Start by looking at the slide by eye, then with the lowest magnific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114440" y="594324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irst year Histology.    001.   Introductory Histology.    J. Bredl.    17-07-03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                     Gross Anatomy Correlates.    Dr S.Frean.    05-09-03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       Histology Slides and Stains.     Tanya Hopcroft.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br>
              <a:rPr sz="1000"/>
            </a:b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                            Compressed version 2006, 2007, 2009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paration of tissue for light micros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image seen in the light microscope is a result of light passing through the t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nce the tissue must be cut into very thin slices, (1- 20 microns thick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many sections 1 micron thick could be cut from a 1 mm block of tissu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paration of tissue for light micros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image seen in the light microscope is a result of light passing through the t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ence the tissue must be cut into very thin slices, (1- 20 microns thick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How many sections 1 micron thick could be cut from a 1 mm block of tissu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Answer : 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paration of tissue for light micros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22856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first stage in preparation is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fix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is preserves the tissue and makes it more rigi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tissue is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embedded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 wax or plastic, making it rigid enough for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cutting into section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se sections are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mounted onto a slide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eparation of tissue for light microsco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tissues are colourless and transparent when thinly sectio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t must be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stained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with a coloured dye so as to enable structural details to be se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colours seen under the light microscope are not the true colours of the tissues but the colours of the stains us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ften the colour of the stain, once applied to the tissue, can provide specific information about the t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final stage is to cover the section with a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coverslip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he sections are then ready to examine under the light microscop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ight microscope appear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Stains are used to show the histological structure of cells and t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stains depend on the formation of bonds between the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acidic and bas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component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of the stain mixture with the tiss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llular components that bind with basic dyes are said to be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bas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ellular components that bind with acidic dyes are said to be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acidophilic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ost class sections are stained with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haematoxyli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eosi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(H&amp;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Haematoxyli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cts as a basic dye; stains chromatin, ribosomes etc. a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purple/blu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Eosin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acts as an acidic dye and stains most of the components of the cytoplasm and intercellular material 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red/pink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6T10:37:26Z</dcterms:created>
  <dc:creator>john christopher stephen bredl</dc:creator>
  <dc:description/>
  <dc:language>en-US</dc:language>
  <cp:lastModifiedBy>Chris Trace</cp:lastModifiedBy>
  <dcterms:modified xsi:type="dcterms:W3CDTF">2011-03-15T20:32:43Z</dcterms:modified>
  <cp:revision>37</cp:revision>
  <dc:subject/>
  <dc:title>INTRODUCTORY  HISTOLOGY</dc:title>
</cp:coreProperties>
</file>